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F31-9314-412B-95AC-779C9145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BDD-4E05-4193-8B3B-D4452593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0F3-894D-4CA2-ABE5-E9C14A73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41A-AA9C-48E8-AA21-FAB097CC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81AD-6E3A-4540-8C91-9230E5B7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8A1C-80F5-457A-9F2B-6775A0F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A456-5944-4F63-8C95-064FC6EE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365-4EFD-4A44-9583-9000198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2E3C-D558-4DE6-BD0D-AC18CC6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DB3-9AFF-4204-AE44-065EDCB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A4EC-AF12-4C9D-B563-1CCA306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B4B-2054-4545-A9D1-007D37B1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8329-8010-4EEC-B0BF-B31CA91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D2F1-F0A5-47B4-B71E-A7F3D62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1FB-77FF-4255-B158-69B7CCA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8A2-483E-4FA6-A361-020C68E2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D48-4B63-48F0-B638-DBC44FE7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29A-6ED6-4740-A14B-E26AAC6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D33-F2B9-464E-87EC-0B70665B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57D-14AE-4A6F-94CA-FD6DFF45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15F-CE60-4302-B660-E750A262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3D9-75DB-4432-B845-1B47440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F07-F51E-4E5E-85FF-A1BB144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F68-FEDE-428D-AEB0-5DC49FF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90F6-FE54-43A7-A902-2CFAC0FB72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E70-FFF2-477E-B544-B6EC489DAA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pt. 3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glish-Junio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ish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 book Qui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lly Sunday use to preach, Alcohol is an appalling source of misery and crime in the land. His efforts helped bring about legel prohibition in the 20’s and early 30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que:worship::________:e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ng:Bell::honk: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17:59Z</dcterms:created>
  <dc:creator>VMS</dc:creator>
  <dc:description/>
  <dc:language>en-US</dc:language>
  <cp:lastModifiedBy>VMS</cp:lastModifiedBy>
  <dcterms:modified xsi:type="dcterms:W3CDTF">2009-09-03T14:27:09Z</dcterms:modified>
  <cp:revision>2</cp:revision>
  <dc:subject/>
  <dc:title>Sept. 3</dc:title>
</cp:coreProperties>
</file>